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0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8F3-1CDB-4DD4-B42A-E5A65F4F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60C-E890-4D99-A3F9-958992D3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72D5-D21F-42A5-819C-51E0CDD8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4CA-5720-45D7-B6F4-B2BFD48F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2A94-9C45-49D9-AC0B-03C219C3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62DF-AA34-4EBB-B0FC-E341D026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9B5A-9D09-49B7-9E99-457035DF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1644-95B7-445D-AE5C-7570FA32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76FB-B2AA-43C7-8180-5C5FACB7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B462-2E08-444B-9773-5DC19585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0C7D-9626-4033-BC3E-03389E03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712-0129-4E7A-926E-2F0F0338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181F-74CB-44C4-ABA9-F4389200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E720-8869-40FA-AFE3-1D68D6F8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3742-1B78-4FFB-BC25-70D88D93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84C1-D126-4DF6-A8CA-560373B7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1C42-9454-412B-8A5B-03FA3454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A37D-E543-4FF4-9B57-2CECB400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EB5F-F6A9-488D-A596-DE13289A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FF509-1230-4EA4-8769-15C72655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7D378-7A4D-4D68-A878-E7FA2567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25C7-F0AA-4389-A4FC-438E5E74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811-C166-4872-8F48-FDE9D834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74BBF-DB16-41A6-A66F-D178A991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60D87-E199-4042-B6E8-6CC10AC4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92EB-4D4A-4487-AB80-81786A00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1CE04-6E15-4BD7-AFE4-3E90B834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70B0-7EB1-4521-B530-A4B72DD7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215D1-8B25-4DA4-8B73-C50F8719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C213-C790-4447-B523-A075914A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89B20-741C-4F3B-B54F-4BC7BA02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51EC4-1D63-4B22-B0FB-1F6A914E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26F61-4457-4F98-BE60-B771D0A4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740-6DB4-4946-9D8E-B6018EAC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BF37-9513-48CA-9B60-9A17310C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72A9E-B609-405D-A578-7CFF4109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EB911-4D10-4863-ABB9-FADF6221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6BEF4-569B-4A09-914E-0FF1E6F7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7A89-B85D-452E-AA6E-3FC5157B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2239-CE84-4C48-ADD9-B4D13522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E731B-88FA-44A2-BE72-F058F486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2755-1087-4145-888D-F4021FA4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A71D6-4DB9-444D-AF4B-4EEC7735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1DC-8642-44F9-9078-0DA837F2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CCC-A7CB-4F3A-A53D-45015556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D554-FA20-4D1A-8A1F-127161A5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F40-E4D3-45B9-BA3E-A306FED3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B68-3B91-43A7-B457-88F6C5DE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2728-0547-4AB0-B777-E5F849717984}" type="slidenum">
              <a:rPr b="0" lang="en-NZ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832F-210D-4EF2-953A-1ED6D6D8D055}" type="slidenum">
              <a:rPr b="0" lang="en-NZ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4153-5618-41A4-918E-FACBA3CA825A}" type="slidenum">
              <a:rPr b="0" lang="en-NZ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E0B1-0D33-48E1-84CE-AB8C0C97A9DE}" type="slidenum">
              <a:rPr b="0" lang="en-NZ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mja.com.au/public/issues/186_12_180607/cla11246_fm.html" TargetMode="External"/><Relationship Id="rId2" Type="http://schemas.openxmlformats.org/officeDocument/2006/relationships/hyperlink" Target="http://www.goldstandardsframework.nhs.uk/GSFInPrimary+Care" TargetMode="External"/><Relationship Id="rId3" Type="http://schemas.openxmlformats.org/officeDocument/2006/relationships/hyperlink" Target="http://www.cancercontrolnz.govt.nz/aboutuspcc" TargetMode="External"/><Relationship Id="rId4" Type="http://schemas.openxmlformats.org/officeDocument/2006/relationships/hyperlink" Target="mailto:davidwilson.mbmc@gmail.com" TargetMode="Externa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1268280"/>
            <a:ext cx="84488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Kate Grundy and Wayne Nayl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March  201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Transition to PC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5000"/>
            <a:ext cx="82296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Chronic condition management requires timely </a:t>
            </a:r>
            <a:r>
              <a:rPr b="0" lang="en-NZ" sz="2600" spc="-1" strike="noStrike" u="sng">
                <a:solidFill>
                  <a:srgbClr val="000000"/>
                </a:solidFill>
                <a:uFillTx/>
                <a:latin typeface="Constantia"/>
              </a:rPr>
              <a:t>transition</a:t>
            </a: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 to palliative and end of life c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Examples are COPD, CCF and Diabe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Simply observing gradual deterioration is not good enoug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Preferences for EOLC cannot be predicted as reliably as for acute c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Access to palliative care services may not always be possible or necessary but some degree of palliative care need will be universal…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Structuring services appropriately is challeng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609120"/>
            <a:ext cx="7161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Advance Care Planning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UK, Australia and U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Interest and expertise in NZ (ACP c0-operativ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NZ" sz="2600" spc="-1" strike="noStrike" u="sng">
                <a:solidFill>
                  <a:srgbClr val="000000"/>
                </a:solidFill>
                <a:uFillTx/>
                <a:latin typeface="Constantia"/>
              </a:rPr>
              <a:t>process</a:t>
            </a: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 of ascertaining patient’s goals, values and preferences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Specific decisions or directives can be ma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Advance care plans/advance directives and EP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DNACPR 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Significant financial, practical, ethical and medico-legal impl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Palliative Care in NZ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934640"/>
            <a:ext cx="8435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Major developments in recent yea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More services, particularly in acute Hospit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More PM trainees (targeted MOH funding from 200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Palliative Care Council of New Zealand (PCC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Palliative Care Advisor in the MO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NZ definition in Feb 200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Role of the Specialist (medical, nursing, allied health) formalised to include support &amp; edu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Acknowledges that most PC is provided by “Generalists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HNZ standards being developed that will be applicable to all health care sett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Primary Care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Palliative Care is part of your core busin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NOT just canc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Family cent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Utilises the resources of the commun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Multi-disciplin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Good integration and communication is paramou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Liaison with secondary servi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spcBef>
                <a:spcPts val="524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nstantia"/>
              </a:rPr>
              <a:t>JOINED UP THINKING, Nigel Hawkes, BMJ 2009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Liaison with Specialist Palliative Care/Hospice for direct advice and support as well as edu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Rural contex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092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Teamwork is criti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524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nstantia"/>
              </a:rPr>
              <a:t>Docto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524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nstantia"/>
              </a:rPr>
              <a:t>Nurses (including Nurse Practitioners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524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nstantia"/>
              </a:rPr>
              <a:t>Community Pharmacis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524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nstantia"/>
              </a:rPr>
              <a:t>Wider community resourc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Rural Hospit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496800" indent="-248400">
              <a:spcBef>
                <a:spcPts val="52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nstantia"/>
              </a:rPr>
              <a:t>Vital resource for PC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Primary/secondary interf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524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nstantia"/>
              </a:rPr>
              <a:t>Hospital PC teams need to identify links/processes/all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Returning patients to their community is often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496800" indent="-248400">
              <a:spcBef>
                <a:spcPts val="52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nstantia"/>
              </a:rPr>
              <a:t>Even when they are unstable/deteriorat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Challenges and Opportunities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248040" indent="-2480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Constantia"/>
              </a:rPr>
              <a:t>Family matters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496800" indent="-248400">
              <a:spcBef>
                <a:spcPts val="575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nstantia"/>
              </a:rPr>
              <a:t>Patient and family-focussed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2" marL="496800" indent="-248400">
              <a:spcBef>
                <a:spcPts val="575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nstantia"/>
              </a:rPr>
              <a:t>Ask – it might just be possible!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Massive fluctuations in work 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496800" indent="-248400">
              <a:spcBef>
                <a:spcPts val="575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nstantia"/>
              </a:rPr>
              <a:t>Bursts of great activity and pressur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2" marL="496800" indent="-248400">
              <a:spcBef>
                <a:spcPts val="575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nstantia"/>
              </a:rPr>
              <a:t>Tiring but rewarding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2" marL="496800" indent="-248400">
              <a:spcBef>
                <a:spcPts val="575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nstantia"/>
              </a:rPr>
              <a:t>Resistance to “interference”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Clear about goals of c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496800" indent="-248400">
              <a:spcBef>
                <a:spcPts val="575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nstantia"/>
              </a:rPr>
              <a:t>Requires shared identification and articulation of the issues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2" marL="496800" indent="-248400">
              <a:spcBef>
                <a:spcPts val="575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nstantia"/>
              </a:rPr>
              <a:t>Honest and deliberate communication (gentle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Referral to PC Services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3308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Difficult p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Poorly opioid sensit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Difficult dyspnoe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Fear of suffo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Bowel obstr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Agitated deliriu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Patient/ family dist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Requests for sedation and euthanasia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4" descr="Ron Meuck 1.JPG"/>
          <p:cNvPicPr/>
          <p:nvPr/>
        </p:nvPicPr>
        <p:blipFill>
          <a:blip r:embed="rId1"/>
          <a:stretch/>
        </p:blipFill>
        <p:spPr>
          <a:xfrm>
            <a:off x="4716360" y="2349360"/>
            <a:ext cx="3996000" cy="29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Difficult cases….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460836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Physical iss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Ethical iss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Complex social situ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Existential/ spiritual dist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Family dist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Team confli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Fresh ey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Pregnancy.JPG"/>
          <p:cNvPicPr/>
          <p:nvPr/>
        </p:nvPicPr>
        <p:blipFill>
          <a:blip r:embed="rId1"/>
          <a:stretch/>
        </p:blipFill>
        <p:spPr>
          <a:xfrm>
            <a:off x="5580000" y="1052640"/>
            <a:ext cx="302436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Ron Meuck 2.JPG"/>
          <p:cNvPicPr/>
          <p:nvPr/>
        </p:nvPicPr>
        <p:blipFill>
          <a:blip r:embed="rId2"/>
          <a:stretch/>
        </p:blipFill>
        <p:spPr>
          <a:xfrm>
            <a:off x="1547640" y="1969920"/>
            <a:ext cx="5977080" cy="44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Palliative Care for COPD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17520" y="2031840"/>
            <a:ext cx="85075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20% deaths in the UK are due to lung dise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Lung cancer, pneumonia and COP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By 2020, COPD will be 3rd leading cause of death global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Palliative care readily available for pts with lung canc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Survival figures for conditions such as severe COPD and Fibrosing Alveolitis are as poor as for lung canc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2 yrs after an acute exacerbation - 49% morta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5 yr survival with severe COPD - 30% men, 24% wom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Communication is often sub-optimal (EOL decision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3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Palliative care support is less available</a:t>
            </a: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Constantia"/>
              </a:rPr>
              <a:t>Partridge et al 200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NZ (2007) –4000 respiratory deaths (60% not canc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1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nstantia"/>
              </a:rPr>
              <a:t>Palliative Care in 201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70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nstantia"/>
              </a:rPr>
              <a:t>International tren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70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nstantia"/>
              </a:rPr>
              <a:t>Illness trajector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70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nstantia"/>
              </a:rPr>
              <a:t>NZ perspectiv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nstantia"/>
              </a:rPr>
              <a:t>Palliative Care Council of NZ (PCC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nstantia"/>
              </a:rPr>
              <a:t>Audience participation/ feedbac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4" descr="Dead dad.JPG"/>
          <p:cNvPicPr/>
          <p:nvPr/>
        </p:nvPicPr>
        <p:blipFill>
          <a:blip r:embed="rId1"/>
          <a:stretch/>
        </p:blipFill>
        <p:spPr>
          <a:xfrm>
            <a:off x="4643280" y="1628640"/>
            <a:ext cx="428472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Patient questionnaire </a:t>
            </a:r>
            <a:r>
              <a:rPr b="0" lang="en-NZ" sz="2400" spc="-1" strike="noStrike">
                <a:solidFill>
                  <a:srgbClr val="4e5b6f"/>
                </a:solidFill>
                <a:latin typeface="Calibri"/>
              </a:rPr>
              <a:t>Gardiner et al 2009</a:t>
            </a:r>
            <a:endParaRPr b="0" lang="en-US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Rated well on listening and answering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Rated poorly on discussing prognosis, what dying might be like and spiritual/religious issues (i.e. advance care plann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Many patients seemed unaware they could die of their chest condition and none had discussed this with a 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Those who mentioned death were concerned about how they would die and were fearful of dying of breathlessness and of “suffocating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Fearful of a distressing and protracted dea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Considering palliative approach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In contrast to other long term conditions, COPD is perceived by pts and families as a “way of lif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Story of their illness has no clear beginning (indistinguishable from their life story) and an unpredictable and unanticipated e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Rather than looking for a clear transition point, holistic assessments are nee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Aim to progressively integrate supportive c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Palliative care provision for progressive COPD needs to begin </a:t>
            </a:r>
            <a:r>
              <a:rPr b="0" lang="en-NZ" sz="2600" spc="-1" strike="noStrike" u="sng">
                <a:solidFill>
                  <a:srgbClr val="000000"/>
                </a:solidFill>
                <a:uFillTx/>
                <a:latin typeface="Constantia"/>
              </a:rPr>
              <a:t>before</a:t>
            </a: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 dyspnoea becomes intrac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Identify a “trigger” – be proact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Positive outcomes </a:t>
            </a:r>
            <a:r>
              <a:rPr b="0" lang="en-NZ" sz="2000" spc="-1" strike="noStrike">
                <a:solidFill>
                  <a:srgbClr val="4e5b6f"/>
                </a:solidFill>
                <a:latin typeface="Calibri"/>
              </a:rPr>
              <a:t>Rocker et al 2007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2835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Informed decision-ma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Resuscitation and other EOL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NIV for acute exacerbations rather than IC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Improved self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Planned approach to dyspnoea (action pla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Community sup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Crisis intervention in the h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Palliation at home for trial peri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Increased GP invol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Ron Mueck 3.JPG"/>
          <p:cNvPicPr/>
          <p:nvPr/>
        </p:nvPicPr>
        <p:blipFill>
          <a:blip r:embed="rId2"/>
          <a:stretch/>
        </p:blipFill>
        <p:spPr>
          <a:xfrm>
            <a:off x="1332000" y="2421000"/>
            <a:ext cx="658800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Managing transitions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245" name="Picture 2" descr="Key phases in EOLC.jpg"/>
          <p:cNvPicPr/>
          <p:nvPr/>
        </p:nvPicPr>
        <p:blipFill>
          <a:blip r:embed="rId1"/>
          <a:stretch/>
        </p:blipFill>
        <p:spPr>
          <a:xfrm>
            <a:off x="457200" y="2174760"/>
            <a:ext cx="82296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Would my pt benefit from PC?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As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Does the patient have an advanced long term condition, a new diagnosis of a progressive life limiting illness or both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Would you be surprised…….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Look for one or more general indica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Poor performance stat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Progressive weight loss (&gt;10% over past 6 month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Two or more unplanned admissions in past 6 month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Pt in HLC or requires significant care at h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Also…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Look for two or more disease-related indica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Constantia"/>
              </a:rPr>
              <a:t>Heart disease</a:t>
            </a: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 (SOB at rest, renal impairment, cardiac cachexia, NYHA class 1v heart failure, two or more admission for IV therapy in past 6 months etc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Constantia"/>
              </a:rPr>
              <a:t>Kidney disease</a:t>
            </a: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 (eGFR &lt;15ml/min, conservative treatment on basis of c0-morbidities, new life-limiting condition such as cancer etc) airwa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Constantia"/>
              </a:rPr>
              <a:t>Respiratory disease</a:t>
            </a: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 (severe obstruction, LT Oxygen therapy, SOB at rest, low BMI, repeated admissions etc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Constantia"/>
              </a:rPr>
              <a:t>Liver disease</a:t>
            </a: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 (alb &lt;25, ascites, HCC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Constantia"/>
              </a:rPr>
              <a:t>Cancer</a:t>
            </a: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 (poor performance status, persistent symptom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Also for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nstantia"/>
              </a:rPr>
              <a:t>neurological disease</a:t>
            </a: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nstantia"/>
              </a:rPr>
              <a:t>dement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Is my patient dying?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onstantia"/>
              </a:rPr>
              <a:t>Clinical indicators for terminal ca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Q1</a:t>
            </a: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Could this patient be in the last days of life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Q2 </a:t>
            </a: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Was this patient’s condition expected to deteriorate </a:t>
            </a: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this way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Q3 </a:t>
            </a: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Is further life-prolonging treatment inappropriate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Q4</a:t>
            </a: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Have potentially reversible causes of deterioration been </a:t>
            </a: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excluded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If the diagnosis of dying is in doubt, give treatment and review within 24 hou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If the answer to all four questions is “Yes”, plan care for a dying pati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nstantia"/>
              </a:rPr>
              <a:t>Both tools taken from: Boyd and Murray, BMJ 20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Barriers to “diagnosing dying”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Hope that the patient may get bet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No definitive progn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Lure of unrealistic or futile interven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Disagreement amongst clinici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Failure to recognise key sig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Lack of knowledge about prescrib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Poor communication skill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Fear of hastening dea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Concerns about resusc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3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Cultural/</a:t>
            </a:r>
            <a:r>
              <a:rPr b="0" lang="en-NZ" sz="2600" spc="-1" strike="noStrike" u="sng">
                <a:solidFill>
                  <a:srgbClr val="000000"/>
                </a:solidFill>
                <a:uFillTx/>
                <a:latin typeface="Constantia"/>
              </a:rPr>
              <a:t>spiritual</a:t>
            </a: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/medicolegal issues </a:t>
            </a:r>
            <a:r>
              <a:rPr b="0" lang="en-NZ" sz="1400" spc="-1" strike="noStrike">
                <a:solidFill>
                  <a:srgbClr val="000000"/>
                </a:solidFill>
                <a:latin typeface="Constantia"/>
              </a:rPr>
              <a:t>Ellershaw and Ward, BMJ 2003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Tools for spiritual well being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Excellent commun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Relationships of tru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Understanding and empat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Affirmation of feel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Keeping promi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Maintaining h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Hope implies a sense of conn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Hope shifts with changing re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A new focus of hope can energize patients even in the last days of life…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Eventually, everyone dies…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1967, Cecily Saunders opened St Christopher's Hosp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Much has been learned since about caring for cancer patients at the end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Palliative care is a medical success s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These lessons have been inadequately appreciated by doctors treating patients dying from causes other than canc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Early recognition of those patients with advancing illness who would benefit from supportive and palliative care is the key to good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NZ" sz="2400" spc="-1" strike="noStrike">
                <a:solidFill>
                  <a:srgbClr val="000000"/>
                </a:solidFill>
                <a:latin typeface="Constantia"/>
              </a:rPr>
              <a:t>Would I be surprised if this pt died within the next year?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" descr="Spiritual distress.jpg"/>
          <p:cNvPicPr/>
          <p:nvPr/>
        </p:nvPicPr>
        <p:blipFill>
          <a:blip r:embed="rId1"/>
          <a:stretch/>
        </p:blipFill>
        <p:spPr>
          <a:xfrm>
            <a:off x="1332000" y="189000"/>
            <a:ext cx="60832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nstantia"/>
              </a:rPr>
              <a:t>What would your ideal palliative care system look like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nstantia"/>
              </a:rPr>
              <a:t>What do you require from you local palliative care service/team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nstantia"/>
              </a:rPr>
              <a:t>In your opinion, what are the main priorities for the Palliative Care Council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209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nstantia"/>
              </a:rPr>
              <a:t>How could a GP practice /organisation formalise, demonstrate and promote a commitment to palliative care for their  community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Concluding thoughts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Preparing patients and families for what lies ahead can be extremely worthwhile and rewar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Invest in understanding the role of AC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MoH document soon to be released which clarifies definitions and the medico-legal framework in N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The relationship with your local specialist palliative care service is worth fostering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Remember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Palliative care is as much about living well as dying we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Articles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Joined up thinking, Nigel Hawkes: BMJ Vol 338, May 23, 2009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Early Palliative Care for Patients with Metastatic Non-Small-Cell Lung Cancer, Temel et al, NEJM 363;8, Aug 19, 20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Dying matters: let’s talk about it: Jane Seymour et al, BMJ2010; 341:c486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Recognising and managing key transitions in end of life care: Kirsty Boyd and Scott Murray, BMJ2010, 341:c4863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Living and dying with severe COPD: multi-perspective longitudinal qualitative study: Pinnock et al, BMJ2011; 342:d142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Whither general practice palliative care: G Mitchell, Australian family Physician Vol 35; No 10. October 2006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4000" y="1915920"/>
            <a:ext cx="8640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Treatment and care toward the end of life; good practice in decision mak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55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General Medical Council, July 20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Clinical practice guidelines for communicating prognosis and end of life issues with adults…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55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MJA 2007; 186(12 Suppl): S77-S108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eb8803"/>
                </a:solidFill>
                <a:uFillTx/>
                <a:latin typeface="Constantia"/>
                <a:hlinkClick r:id="rId1"/>
              </a:rPr>
              <a:t>http://www.mja.com.au/public/issues/186_12_180607/cla11246_fm.htm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The Gold Standards Framework (UK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eb8803"/>
                </a:solidFill>
                <a:uFillTx/>
                <a:latin typeface="Constantia"/>
                <a:hlinkClick r:id="rId2"/>
              </a:rPr>
              <a:t>http://www.goldstandardsframework.nhs.uk/GSFInPrimary+Ca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PCC - </a:t>
            </a:r>
            <a:r>
              <a:rPr b="0" lang="en-NZ" sz="2000" spc="-1" strike="noStrike" u="sng">
                <a:solidFill>
                  <a:srgbClr val="eb8803"/>
                </a:solidFill>
                <a:uFillTx/>
                <a:latin typeface="Constantia"/>
                <a:hlinkClick r:id="rId3"/>
              </a:rPr>
              <a:t>http://www.cancercontrolnz.govt.nz/aboutuspc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David Wilson (Rural GP rep) – </a:t>
            </a:r>
            <a:r>
              <a:rPr b="0" lang="en-NZ" sz="2000" spc="-1" strike="noStrike" u="sng">
                <a:solidFill>
                  <a:srgbClr val="eb8803"/>
                </a:solidFill>
                <a:uFillTx/>
                <a:latin typeface="Constantia"/>
                <a:hlinkClick r:id="rId4"/>
              </a:rPr>
              <a:t>davidwilson.mbmc@gmail.c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nstantia"/>
              </a:rPr>
              <a:t>Ron Mueck Exhibition - Christchurch Art Gallery Jan 2011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eet - Dead D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Public awareness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There is still a lack of public openness of dea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May have negative consequences for quality of care at the end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Fear of the process of dy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Lack of knowledge about how to request and access servi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Lack of openness between close family memb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Isolation of the bereav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Virtually all public commentary about dying is around PAS/euthanasia or horror stories about poor c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High professional profile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Treatment and care towards the end of life: good practice in decision making (GMC 2010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Early PC for metastatic lung cancer - NEJM 201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NZMA Medspeak –201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End of life care – what do our patients really want?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Long-term conditions – shift to community-based c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PC beyond cancer” - most wanted topic poled by BMJ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Joined up thinking – May 200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Spotlight on PC (2010) – sponsored by British Heart Fd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Constantia"/>
              </a:rPr>
              <a:t>BMJ Supportive and Palliative Care</a:t>
            </a: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 - new peer reviewed journal to be launched in April 201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International Trends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340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Advance Care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Growing momentum in NZ…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End of Life C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New “buzz word” – emotive but cle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Profile of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nstantia"/>
              </a:rPr>
              <a:t>quality</a:t>
            </a: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 end of life care is low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Not just the remit of Specialist Palliative Care  -puts the onus on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nstantia"/>
              </a:rPr>
              <a:t>everyone</a:t>
            </a: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 to think about their own practice and their own servi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Essential component of health service plan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734600" cy="52531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2124000" y="6238800"/>
            <a:ext cx="53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Hospice and Palliative Medicine; New Subspecialty, New Opport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 E Quest et al, Annals of Emergency Medicine, Vol 54, No 1, July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US figures for patients &gt;65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00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20% will die young due to an illness with a relatively short final decline (weeks to months) – typical of many canc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25% will die by a slow decline, punctuated by dramatic exacerbations with a high chance of “sudden” death – typical of COPD, CC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40% have a very poor long term functional status with slow decline (dementia, younger patients with MND and strok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737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4e5b6f"/>
                </a:solidFill>
                <a:latin typeface="Calibri"/>
              </a:rPr>
              <a:t>Improving EOL care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920" y="2023920"/>
            <a:ext cx="763272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EOL care is an important public oblig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Approx 80% of deaths have a dying process that occurs over a few weeks to many month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Only 20% occur suddenly/unexpected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More assistance is needed to support “aging in place” and “dying in plac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More assistance is needed to prevent carer fatigue and burno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Constantia"/>
              </a:rPr>
              <a:t>Researching a Best Practice EOLC Model for Canad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Constantia"/>
              </a:rPr>
              <a:t>WILSON et al, Canadian J of Aging, 200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ltimedia Systems</cp:lastModifiedBy>
  <dcterms:modified xsi:type="dcterms:W3CDTF">2011-03-18T01:07:28Z</dcterms:modified>
  <cp:revision>48</cp:revision>
  <dc:subject/>
  <dc:title>PowerPoint Presentation</dc:title>
</cp:coreProperties>
</file>