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85A7-DD04-43DB-9D8A-9E4921EAF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601-4289-4CD7-BDC1-6EE1D1A8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A74-9234-4683-9DEE-C2DCBF16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A46C-66E7-48FD-A96D-07DFBCB9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C549-2B93-4999-8447-73E2FC63B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BE1A-7F11-4EBF-BB78-FB9933EC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493-7DBC-4B71-83BA-638FF588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A6C-4D97-4FE2-B4DC-5D63B9E4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D6E-6159-4EF7-B3F9-0536E91A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551C-F2A5-4D76-AFF7-4D30A728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4176-BEBF-4E58-B890-BABB5E04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32B1-A9A7-4A40-B298-F283D2240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4EE-00C4-408F-8E87-12D50B33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8B11-B594-4826-8C5A-00ECBBCD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BAB-C304-431D-B0CF-ED10E656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ACB6-6D12-4279-B643-CF7EE142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F0B-B438-468E-8AB1-EAFB5824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779-BA48-408F-88A8-FACF9D4B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FF6-97E2-4B68-865C-185BA9DB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462-1478-429C-9148-5F99FD8F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E25-A572-4C0B-9912-1B11820D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6711-CE09-4774-B641-AC2727E7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C12-A713-4710-9137-C2864652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AC8-117E-4E9F-9FFB-70383DA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416-B569-4F84-B6AA-5302294B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83C-1356-4A40-8F88-47392BF5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090A-3099-474A-8DB9-879486B8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814-A628-498D-8270-EF76EB8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62CF-C5AB-476A-B175-2ACA849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C04-7F9A-424D-AC19-FF119C2C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D87E-BB64-4F09-9637-9F194DF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4609-7FF0-4040-BC47-25ECED6A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ABAE-9685-4801-B0EA-7688B60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66F-DA13-4954-BC00-E4A72B2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352E-7DB9-4651-B5A3-39F71FD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D879-061D-4F53-9F83-92011DA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207B-A4EB-42A6-B96E-524DF518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229-8982-4DCB-87B5-37D255F9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89E-C7BF-47A2-AFEC-2EB4F1E6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4508F-8E39-4374-95BE-6CF57512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2B933-B8EE-4169-8A8F-BF968FA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FF4FA-0789-47AF-95F4-2AF9CA9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71F7C-2E74-4D71-A086-DD8FB6A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29F62-B7B3-48DF-8F7E-9C84F2C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37B-0576-476A-BB88-0B937137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8B1E0-1250-4991-B326-D1A4FB8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FE09-4683-433F-BE36-62E64B3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1C2C1-B526-43DC-895B-C6D6175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245EC-78F6-41D2-8AC0-B6A4BD9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42487-A93D-49BF-961A-C68B3986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43B9D-9DAE-4B66-B907-F4457407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DC016-6A57-4251-8895-0986A806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F25D-738E-430D-9B9F-9C567E5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1F1D-B387-4FE2-904E-DE38C8F3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937F-42DC-4263-9E45-CE628ACE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3AE-FA16-4B09-A182-943C60D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C63E-7583-4E34-B7FE-F3D09EA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275B-AF8D-4B60-9761-337453F8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6C78-8270-4265-BF31-6051544F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91D0-5B6C-4F93-A1AD-580530F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35D0-F622-4A90-9E91-C1E1AD6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6C9E-A8AC-4BB8-97E1-88FE183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9720-F53A-4318-8F87-D886B41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974E-BED7-4BF4-8B02-4EE84C55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9929-12E6-41CA-8B0F-75822A61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0DC-F5AB-42F8-9C72-DCDED39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824-E4B0-4394-8BC7-5D43F4E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EB9-D7BA-4B2D-B54C-ED27D7B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CE7-C106-4695-8705-D3328D6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64F-99F5-48C3-A913-0356805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A1A-07DD-4090-9D83-76F32D5B7384}" type="slidenum">
              <a:rPr b="0" lang="en-US" sz="1200" spc="-1" strike="noStrike">
                <a:solidFill>
                  <a:srgbClr val="fefef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6D0-21B5-481C-8498-802D9A999595}" type="slidenum">
              <a:rPr b="0" lang="en-US" sz="1200" spc="-1" strike="noStrike">
                <a:solidFill>
                  <a:srgbClr val="94c6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CFEC-19F0-48E6-8117-269F0A519A08}" type="slidenum">
              <a:rPr b="0" lang="en-US" sz="1200" spc="-1" strike="noStrike">
                <a:solidFill>
                  <a:srgbClr val="fefef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C73-DDED-4ABD-B08A-86821EC61A5A}" type="slidenum">
              <a:rPr b="0" lang="en-US" sz="1200" spc="-1" strike="noStrike">
                <a:solidFill>
                  <a:srgbClr val="fefef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mcm@wickmed.co.nz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4248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BC Alcoho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3" name="Content Placeholder 3" descr="Wanganui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75308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79200" y="-228600"/>
            <a:ext cx="70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7" descr="http://www.involve.org.nz/involve/corporate%20logo_7924.jpg"/>
          <p:cNvPicPr/>
          <p:nvPr/>
        </p:nvPicPr>
        <p:blipFill>
          <a:blip r:embed="rId2"/>
          <a:stretch/>
        </p:blipFill>
        <p:spPr>
          <a:xfrm>
            <a:off x="4932360" y="7873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new-wrpho-logo-letterhead"/>
          <p:cNvPicPr/>
          <p:nvPr/>
        </p:nvPicPr>
        <p:blipFill>
          <a:blip r:embed="rId3"/>
          <a:stretch/>
        </p:blipFill>
        <p:spPr>
          <a:xfrm>
            <a:off x="6084720" y="806400"/>
            <a:ext cx="24908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Information recorded in clinical not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973080" y="2349360"/>
            <a:ext cx="7389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68080" y="620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assification update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44910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971640" y="685800"/>
            <a:ext cx="659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Information searchable for audit and report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dicator: alcohol status as a classification WRPHO practic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 July 2009 Dashboard alcohol form available (V1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 at end January 2010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lcohol status recorded 43%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3"/>
          <p:cNvGraphicFramePr/>
          <p:nvPr/>
        </p:nvGraphicFramePr>
        <p:xfrm>
          <a:off x="971640" y="333360"/>
          <a:ext cx="6913440" cy="63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3360"/>
                    <a:ext cx="691344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84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Outcomes May 2010- Jan 201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614520" y="2492280"/>
            <a:ext cx="7867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moking needs check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69595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99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6"/>
          <p:cNvSpPr/>
          <p:nvPr/>
        </p:nvSpPr>
        <p:spPr>
          <a:xfrm>
            <a:off x="6424560" y="6124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0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8" descr=""/>
          <p:cNvPicPr/>
          <p:nvPr/>
        </p:nvPicPr>
        <p:blipFill>
          <a:blip r:embed="rId1"/>
          <a:stretch/>
        </p:blipFill>
        <p:spPr>
          <a:xfrm>
            <a:off x="6981840" y="1700280"/>
            <a:ext cx="133524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"/>
          <p:cNvPicPr/>
          <p:nvPr/>
        </p:nvPicPr>
        <p:blipFill>
          <a:blip r:embed="rId2"/>
          <a:stretch/>
        </p:blipFill>
        <p:spPr>
          <a:xfrm>
            <a:off x="822240" y="981000"/>
            <a:ext cx="516888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3"/>
          <p:cNvGraphicFramePr/>
          <p:nvPr/>
        </p:nvGraphicFramePr>
        <p:xfrm>
          <a:off x="395280" y="981000"/>
          <a:ext cx="8399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399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88920" y="62028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atient Dashbo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29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VR Screen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2247840" cy="455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2308320" y="1711440"/>
            <a:ext cx="809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ashboard and smoking/alcohol form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reely available for Medtech P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rom WRPHO  </a:t>
            </a: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mcm@wickmed.co.nz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qires low cost Dashboard and advanced forms licen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ome IT support require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andouts here &amp; ALAC display st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7" descr="http://www.involve.org.nz/involve/corporate%20logo_7924.jpg"/>
          <p:cNvPicPr/>
          <p:nvPr/>
        </p:nvPicPr>
        <p:blipFill>
          <a:blip r:embed="rId2"/>
          <a:stretch/>
        </p:blipFill>
        <p:spPr>
          <a:xfrm>
            <a:off x="4356000" y="5300640"/>
            <a:ext cx="1152720" cy="820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new-wrpho-logo-letterhead"/>
          <p:cNvPicPr/>
          <p:nvPr/>
        </p:nvPicPr>
        <p:blipFill>
          <a:blip r:embed="rId3"/>
          <a:stretch/>
        </p:blipFill>
        <p:spPr>
          <a:xfrm>
            <a:off x="5651640" y="5464080"/>
            <a:ext cx="2492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lcohol needs check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69595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600" y="620280"/>
            <a:ext cx="3965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94c600"/>
                </a:solidFill>
                <a:latin typeface="Century Gothic"/>
              </a:rPr>
              <a:t>Alcoho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539640" y="1631880"/>
            <a:ext cx="8136000" cy="4257720"/>
          </a:xfrm>
          <a:prstGeom prst="rect">
            <a:avLst/>
          </a:prstGeom>
          <a:ln w="0">
            <a:noFill/>
          </a:ln>
        </p:spPr>
      </p:pic>
      <p:sp>
        <p:nvSpPr>
          <p:cNvPr id="353" name="Down Arrow 4"/>
          <p:cNvSpPr/>
          <p:nvPr/>
        </p:nvSpPr>
        <p:spPr>
          <a:xfrm rot="19201800">
            <a:off x="149400" y="325404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7280" y="907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Asking, recording and brief advice “ease up on the drinking”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917640" y="2403360"/>
            <a:ext cx="726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20600" y="90756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ompleting AUDIT 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353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Links to ALAC website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1056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71280" y="785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etailed assessment tool availab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567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595080"/>
            <a:ext cx="702468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asy referr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324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0:02:22Z</dcterms:created>
  <dc:creator>Ken Leech</dc:creator>
  <dc:description/>
  <dc:language>en-US</dc:language>
  <cp:lastModifiedBy>mcm</cp:lastModifiedBy>
  <dcterms:modified xsi:type="dcterms:W3CDTF">2011-03-16T07:04:23Z</dcterms:modified>
  <cp:revision>78</cp:revision>
  <dc:subject/>
  <dc:title>Slide 1</dc:title>
</cp:coreProperties>
</file>