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5E22F-F049-4873-86FE-FEAA3A4AA526}" type="datetime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95c7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2B32E-5458-43B6-88DA-1C11DDDCB8D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0142B-A5D5-4B5B-A030-16440DFE3C21}" type="slidenum">
              <a:rPr b="0" lang="en-NZ" sz="1200" spc="-1" strike="noStrike">
                <a:solidFill>
                  <a:srgbClr val="0047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7724F-2B50-4DFB-951F-102C895EF7B7}" type="slidenum">
              <a:rPr b="0" lang="en-GB" sz="1200" spc="-1" strike="noStrike">
                <a:solidFill>
                  <a:srgbClr val="0047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59425-32D8-416D-A612-95A17373F99F}" type="slidenum">
              <a:rPr b="0" lang="en-NZ" sz="1200" spc="-1" strike="noStrike">
                <a:solidFill>
                  <a:srgbClr val="0047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8E4ED-5C39-414B-818C-B7FC54E59B3E}" type="slidenum">
              <a:rPr b="0" lang="en-NZ" sz="1200" spc="-1" strike="noStrike">
                <a:solidFill>
                  <a:srgbClr val="0047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278A7-0339-459E-95DD-EBC91FA8DC88}" type="slidenum">
              <a:rPr b="0" lang="en-NZ" sz="1200" spc="-1" strike="noStrike">
                <a:solidFill>
                  <a:srgbClr val="0047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DBE5B-B1E6-4B3B-BEF1-3826D3BB3C0B}" type="slidenum">
              <a:rPr b="0" lang="en-NZ" sz="1200" spc="-1" strike="noStrike">
                <a:solidFill>
                  <a:srgbClr val="0047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9A3DA-A52D-4916-BF13-D13D79AD85C0}" type="slidenum">
              <a:rPr b="0" lang="en-NZ" sz="1200" spc="-1" strike="noStrike">
                <a:solidFill>
                  <a:srgbClr val="0047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1F878-A6AA-4060-A04C-8B43A3F08D15}" type="slidenum">
              <a:rPr b="0" lang="en-NZ" sz="1200" spc="-1" strike="noStrike">
                <a:solidFill>
                  <a:srgbClr val="0047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2BADE-25DC-441A-B416-2E2172E47C82}" type="slidenum">
              <a:rPr b="0" lang="en-NZ" sz="1200" spc="-1" strike="noStrike">
                <a:solidFill>
                  <a:srgbClr val="0047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596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840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596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840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279C-4BB9-4A20-8C08-802C04A3CE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6BC1-6340-4639-B556-E48755B31E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2BF0-6768-400F-8255-8D50790493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07DF-5181-469E-8D8C-D398F20B30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5C13-922E-4340-B25D-F3D09634D4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1407960"/>
            <a:ext cx="82296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7241-CD66-4CD9-8E39-3F67FF9746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8D81-51AC-437E-B062-0E63C5B881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ECD4-461B-4B74-A5D1-DD37B65DC0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42A5-2E89-49A8-8454-CAB54A6514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9EAB-3C0D-4993-B075-7E02D60801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E8EE-A260-4C14-BD59-1877F4F4C2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596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840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596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9840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80A0-C2FC-4FC9-BBD3-D8E8DA1250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6232-0260-4F37-B5B3-6EC4943F4E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F5DC-8A52-42FA-ACF3-9DDB108937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15BA-ED56-4162-866C-75C18A5FA6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20F8-1759-4271-A404-32B4C93A6A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6102-DB31-4BDE-8CC9-96EF6A2B18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520" y="1407960"/>
            <a:ext cx="82296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2773-8454-40C6-8C0D-E450BAF64C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098D-DA71-484B-A9F9-86A7F8285A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9DAA-AC87-473D-89AD-7639A641B7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72F7-EEB8-487C-B792-5BA410A504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25E3-8FA7-4D79-8864-C7B5CE765C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55E8-C29E-41F7-9234-EFA01DE019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596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840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52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596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9840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3EDF-74E1-47F6-8EA7-06261D1743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F96-F41F-4DB6-9E46-975BE4682F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AA6-D6E4-4FFC-A41B-A3E4F08D1B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6C2-0607-40C4-B29E-824F4F9BA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0EE-6F10-4814-B312-EDB9448EF1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A69-4E7D-42B7-A213-7692003EBA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3520" y="1407960"/>
            <a:ext cx="82296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6C7-4F5D-43ED-9AC0-6983D95E1B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1A6-C1A9-40F5-B3C9-26DA26A580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4B0-2EA7-4FEA-B268-5A323AFDE8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BC5-1A8F-4E25-88AF-A7D2A8684F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B2F-B6B5-4109-A1AD-809280CC9A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33C-CE30-44C7-90EA-0A973CA0CC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596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840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52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596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9840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6B6-A211-49DD-A697-52962101AD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33520" y="1407960"/>
            <a:ext cx="82296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1407960"/>
            <a:ext cx="82296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596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8400" y="217188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3352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1596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98400" y="4022640"/>
            <a:ext cx="264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0560" y="402264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2171880"/>
            <a:ext cx="40158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4022640"/>
            <a:ext cx="8229600" cy="16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95c7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1" descr="LayoutSmall.jpg"/>
          <p:cNvPicPr/>
          <p:nvPr/>
        </p:nvPicPr>
        <p:blipFill>
          <a:blip r:embed="rId2"/>
          <a:srcRect l="0" t="88274" r="0" b="0"/>
          <a:stretch/>
        </p:blipFill>
        <p:spPr>
          <a:xfrm>
            <a:off x="0" y="6053040"/>
            <a:ext cx="9144000" cy="80496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95c7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1496A-63BF-40A1-B710-B2AC683678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1" descr="LayoutSmall.jpg"/>
          <p:cNvPicPr/>
          <p:nvPr/>
        </p:nvPicPr>
        <p:blipFill>
          <a:blip r:embed="rId2"/>
          <a:srcRect l="0" t="88274" r="0" b="0"/>
          <a:stretch/>
        </p:blipFill>
        <p:spPr>
          <a:xfrm>
            <a:off x="0" y="6053040"/>
            <a:ext cx="9144000" cy="804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95c7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2"/>
          </p:nvPr>
        </p:nvSpPr>
        <p:spPr>
          <a:xfrm>
            <a:off x="708624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F5966-4E43-4045-A446-113B7D5AD2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95c7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3"/>
          </p:nvPr>
        </p:nvSpPr>
        <p:spPr>
          <a:xfrm>
            <a:off x="708624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F66CA-04CE-4AB9-9432-67591E7EB9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70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0ED1C-127F-4BA3-870B-C85C576F08F6}" type="slidenum">
              <a:rPr b="0" lang="en-US" sz="1200" spc="-1" strike="noStrike">
                <a:solidFill>
                  <a:srgbClr val="898fa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  <p:pic>
        <p:nvPicPr>
          <p:cNvPr id="158" name="Picture 5" descr="PPT.jpg"/>
          <p:cNvPicPr/>
          <p:nvPr/>
        </p:nvPicPr>
        <p:blipFill>
          <a:blip r:embed="rId2"/>
          <a:stretch/>
        </p:blipFill>
        <p:spPr>
          <a:xfrm>
            <a:off x="1440" y="0"/>
            <a:ext cx="9180720" cy="688644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5"/>
          <p:cNvSpPr/>
          <p:nvPr/>
        </p:nvSpPr>
        <p:spPr>
          <a:xfrm>
            <a:off x="6696000" y="6561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CB765-9472-4A35-9C9A-63F2BA18FF38}" type="slidenum">
              <a:rPr b="0" lang="en-US" sz="1000" spc="-1" strike="noStrike">
                <a:solidFill>
                  <a:srgbClr val="00476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40796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3295c7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33520" y="21718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476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95c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295c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iStock_000011935406XLarge.jpg"/>
          <p:cNvPicPr/>
          <p:nvPr/>
        </p:nvPicPr>
        <p:blipFill>
          <a:blip r:embed="rId1"/>
          <a:srcRect l="0" t="0" r="18938" b="44104"/>
          <a:stretch/>
        </p:blipFill>
        <p:spPr>
          <a:xfrm>
            <a:off x="2529000" y="0"/>
            <a:ext cx="6615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Frame.png"/>
          <p:cNvPicPr/>
          <p:nvPr/>
        </p:nvPicPr>
        <p:blipFill>
          <a:blip r:embed="rId2"/>
          <a:stretch/>
        </p:blipFill>
        <p:spPr>
          <a:xfrm>
            <a:off x="249120" y="42840"/>
            <a:ext cx="7550280" cy="3968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8"/>
          <p:cNvSpPr/>
          <p:nvPr/>
        </p:nvSpPr>
        <p:spPr>
          <a:xfrm>
            <a:off x="623880" y="2243160"/>
            <a:ext cx="5524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9ac8"/>
                </a:solidFill>
                <a:latin typeface="Verdana"/>
              </a:rPr>
              <a:t>Towards a healthier future</a:t>
            </a:r>
            <a:endParaRPr b="0" lang="en-US" sz="25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9ac8"/>
                </a:solidFill>
                <a:latin typeface="Verdana"/>
              </a:rPr>
              <a:t>Jo-Ann Jacobson</a:t>
            </a:r>
            <a:endParaRPr b="0" lang="en-US" sz="25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9ac8"/>
                </a:solidFill>
                <a:latin typeface="Verdana"/>
              </a:rPr>
              <a:t>Lance Kirschberg</a:t>
            </a:r>
            <a:endParaRPr b="0" lang="en-US" sz="25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4760"/>
              </a:solidFill>
              <a:latin typeface="Arial"/>
            </a:endParaRPr>
          </a:p>
        </p:txBody>
      </p:sp>
      <p:pic>
        <p:nvPicPr>
          <p:cNvPr id="208" name="Picture 41" descr="LayoutSmall.jpg"/>
          <p:cNvPicPr/>
          <p:nvPr/>
        </p:nvPicPr>
        <p:blipFill>
          <a:blip r:embed="rId3"/>
          <a:srcRect l="0" t="90935" r="80420" b="0"/>
          <a:stretch/>
        </p:blipFill>
        <p:spPr>
          <a:xfrm>
            <a:off x="0" y="6235560"/>
            <a:ext cx="1790640" cy="622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GENI_SPK_STACK_wht.png"/>
          <p:cNvPicPr/>
          <p:nvPr/>
        </p:nvPicPr>
        <p:blipFill>
          <a:blip r:embed="rId4"/>
          <a:stretch/>
        </p:blipFill>
        <p:spPr>
          <a:xfrm>
            <a:off x="7670880" y="5410080"/>
            <a:ext cx="1282680" cy="128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660240" y="449280"/>
            <a:ext cx="74469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231840" y="685800"/>
            <a:ext cx="552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9ac8"/>
                </a:solidFill>
                <a:latin typeface="Verdana"/>
              </a:rPr>
              <a:t>Gen-i: your ICT partner</a:t>
            </a:r>
            <a:endParaRPr b="0" lang="en-US" sz="30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349200" y="1401840"/>
            <a:ext cx="655020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We’re sector-ready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The largest ICT-certified partner of the Ministry of Health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Flexibility &amp; scale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Providing exactly the solution you need right now – with effortless upgrades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Business continuity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Know your network is being actively managed and monitored 24/7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We’re ICT innovators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We’re constantly delivering cutting-edge health solutions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Industry best-practice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More data management based certifications than any other NZ service provider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We’re local, not global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HealthZone is hosted here. And we invest in New Zealand, with you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8"/>
          <p:cNvSpPr/>
          <p:nvPr/>
        </p:nvSpPr>
        <p:spPr>
          <a:xfrm>
            <a:off x="2031840" y="2492280"/>
            <a:ext cx="5193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9ac8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9ac8"/>
                </a:solidFill>
                <a:latin typeface="Verdana"/>
              </a:rPr>
              <a:t>HealthZone is your gateway to the health system of the future. It will open up a host of new technologies that can transform the way you work.”</a:t>
            </a:r>
            <a:endParaRPr b="0" lang="en-US" sz="16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9ac8"/>
                </a:solidFill>
                <a:latin typeface="Verdana"/>
              </a:rPr>
              <a:t>Jo-Ann Jacobson, Health Business Development Manager, Gen-i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  <p:pic>
        <p:nvPicPr>
          <p:cNvPr id="236" name="Picture 7" descr="Screen-shot-2011-02-16-at-10.52.42-AM.png"/>
          <p:cNvPicPr/>
          <p:nvPr/>
        </p:nvPicPr>
        <p:blipFill>
          <a:blip r:embed="rId1"/>
          <a:stretch/>
        </p:blipFill>
        <p:spPr>
          <a:xfrm>
            <a:off x="1471680" y="1979640"/>
            <a:ext cx="1125360" cy="2517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Screen-shot-2011-02-16-at-10.52.42-AM.png"/>
          <p:cNvPicPr/>
          <p:nvPr/>
        </p:nvPicPr>
        <p:blipFill>
          <a:blip r:embed="rId2"/>
          <a:stretch/>
        </p:blipFill>
        <p:spPr>
          <a:xfrm>
            <a:off x="6527880" y="1952640"/>
            <a:ext cx="112536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-360" y="1803240"/>
            <a:ext cx="831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3295c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95c7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95c7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3295c7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95c7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95c7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95c7"/>
              </a:solidFill>
              <a:latin typeface="Verdana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2031840" y="2492280"/>
            <a:ext cx="519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9ac8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9ac8"/>
                </a:solidFill>
                <a:latin typeface="Verdana"/>
              </a:rPr>
              <a:t>Our vision is to provide the health sector with services that connect health organisations and provide access to clinical information - anywhere, anytime.”</a:t>
            </a:r>
            <a:endParaRPr b="0" lang="en-US" sz="16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9ac8"/>
                </a:solidFill>
                <a:latin typeface="Verdana"/>
              </a:rPr>
              <a:t>Chris Quin, CEO Gen-i Australasia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  <p:pic>
        <p:nvPicPr>
          <p:cNvPr id="212" name="Picture 7" descr="Screen-shot-2011-02-16-at-10.52.42-AM.png"/>
          <p:cNvPicPr/>
          <p:nvPr/>
        </p:nvPicPr>
        <p:blipFill>
          <a:blip r:embed="rId1"/>
          <a:stretch/>
        </p:blipFill>
        <p:spPr>
          <a:xfrm>
            <a:off x="1471680" y="1979640"/>
            <a:ext cx="1125360" cy="2517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Screen-shot-2011-02-16-at-10.52.42-AM.png"/>
          <p:cNvPicPr/>
          <p:nvPr/>
        </p:nvPicPr>
        <p:blipFill>
          <a:blip r:embed="rId2"/>
          <a:stretch/>
        </p:blipFill>
        <p:spPr>
          <a:xfrm>
            <a:off x="6540480" y="1979640"/>
            <a:ext cx="112572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231840" y="685800"/>
            <a:ext cx="552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9ac8"/>
                </a:solidFill>
                <a:latin typeface="Verdana"/>
              </a:rPr>
              <a:t>What is Healthzone?</a:t>
            </a:r>
            <a:endParaRPr b="0" lang="en-US" sz="30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349200" y="1401840"/>
            <a:ext cx="629784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A purpose-built Intranet for the health sector that enables the </a:t>
            </a: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fast, secure and accurate exchange </a:t>
            </a:r>
            <a:br>
              <a:rPr sz="1800"/>
            </a:b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of health information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Allowing healthcare organisations and their </a:t>
            </a:r>
            <a:br>
              <a:rPr sz="1800"/>
            </a:b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employees to securely access </a:t>
            </a: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patient data </a:t>
            </a:r>
            <a:br>
              <a:rPr sz="1800"/>
            </a:b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clinical information from: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any fixed location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any XT mobile device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or securely from the Internet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  <p:pic>
        <p:nvPicPr>
          <p:cNvPr id="217" name="Picture 4" descr="Lady.png"/>
          <p:cNvPicPr/>
          <p:nvPr/>
        </p:nvPicPr>
        <p:blipFill>
          <a:blip r:embed="rId1"/>
          <a:srcRect l="0" t="0" r="0" b="20812"/>
          <a:stretch/>
        </p:blipFill>
        <p:spPr>
          <a:xfrm>
            <a:off x="5334120" y="898560"/>
            <a:ext cx="4368600" cy="51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8"/>
          <p:cNvSpPr/>
          <p:nvPr/>
        </p:nvSpPr>
        <p:spPr>
          <a:xfrm>
            <a:off x="231840" y="685800"/>
            <a:ext cx="64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9ac8"/>
                </a:solidFill>
                <a:latin typeface="Verdana"/>
              </a:rPr>
              <a:t>Healthzone will help you to…</a:t>
            </a:r>
            <a:endParaRPr b="0" lang="en-US" sz="30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349200" y="1401840"/>
            <a:ext cx="629784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Access data quickly and securely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Access patient data and clinical information – anywhere, anytime – while keeping the data secure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Access centralised data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HealthZone provides secure access to a network of health information systems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Reduce cost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By simplifying and streamlining your processes, HealthZone delivers true value-for-money on ICT spend. 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Improve health outcomes.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HealthZone is your gateway to new technologies – such as Telehealth and RFID tracking – that support the new patient-centred models of care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8"/>
          <p:cNvSpPr/>
          <p:nvPr/>
        </p:nvSpPr>
        <p:spPr>
          <a:xfrm>
            <a:off x="231840" y="685800"/>
            <a:ext cx="552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9ac8"/>
                </a:solidFill>
                <a:latin typeface="Verdana"/>
              </a:rPr>
              <a:t>Healthzone – an overview</a:t>
            </a:r>
            <a:endParaRPr b="0" lang="en-US" sz="30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349200" y="1401840"/>
            <a:ext cx="629784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HealthZone creates a </a:t>
            </a: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secure realm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for the sharing of information between health sector organisations. 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Choose to access HealthZone from a </a:t>
            </a: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fixed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 location (Gen-i WAN Services), </a:t>
            </a: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mobile device 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(Gen-i Private APN), or via the </a:t>
            </a: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Internet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 (SecureMe for Health)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</p:txBody>
      </p:sp>
      <p:pic>
        <p:nvPicPr>
          <p:cNvPr id="222" name="Picture 6" descr="Diagram1.png"/>
          <p:cNvPicPr/>
          <p:nvPr/>
        </p:nvPicPr>
        <p:blipFill>
          <a:blip r:embed="rId1"/>
          <a:stretch/>
        </p:blipFill>
        <p:spPr>
          <a:xfrm>
            <a:off x="252360" y="2979720"/>
            <a:ext cx="6746760" cy="30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8"/>
          <p:cNvSpPr/>
          <p:nvPr/>
        </p:nvSpPr>
        <p:spPr>
          <a:xfrm>
            <a:off x="231840" y="685800"/>
            <a:ext cx="552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9ac8"/>
                </a:solidFill>
                <a:latin typeface="Verdana"/>
              </a:rPr>
              <a:t>Who we’re connecting</a:t>
            </a:r>
            <a:endParaRPr b="0" lang="en-US" sz="30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349200" y="1401840"/>
            <a:ext cx="629784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HealthZone connects DHBs, hospitals, GPs, </a:t>
            </a:r>
            <a:br>
              <a:rPr sz="1800"/>
            </a:b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public health organisations (PHOs), and health </a:t>
            </a:r>
            <a:br>
              <a:rPr sz="1800"/>
            </a:b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related Non-Government organisations (NGOs)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Information-sharing enables the move </a:t>
            </a:r>
            <a:br>
              <a:rPr sz="1800"/>
            </a:b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towards </a:t>
            </a: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patient-centric models of </a:t>
            </a:r>
            <a:br>
              <a:rPr sz="1800"/>
            </a:br>
            <a:r>
              <a:rPr b="1" lang="en-US" sz="1800" spc="-1" strike="noStrike">
                <a:solidFill>
                  <a:srgbClr val="4c4d4f"/>
                </a:solidFill>
                <a:latin typeface="Verdana"/>
              </a:rPr>
              <a:t>care</a:t>
            </a: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, by improving ‘transfer of care’ </a:t>
            </a:r>
            <a:br>
              <a:rPr sz="1800"/>
            </a:b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between providers.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</p:txBody>
      </p:sp>
      <p:pic>
        <p:nvPicPr>
          <p:cNvPr id="225" name="Picture 4" descr="_DSC7976.png"/>
          <p:cNvPicPr/>
          <p:nvPr/>
        </p:nvPicPr>
        <p:blipFill>
          <a:blip r:embed="rId1"/>
          <a:stretch/>
        </p:blipFill>
        <p:spPr>
          <a:xfrm>
            <a:off x="4998960" y="1384200"/>
            <a:ext cx="3714840" cy="463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8"/>
          <p:cNvSpPr/>
          <p:nvPr/>
        </p:nvSpPr>
        <p:spPr>
          <a:xfrm>
            <a:off x="231840" y="685800"/>
            <a:ext cx="552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9ac8"/>
                </a:solidFill>
                <a:latin typeface="Verdana"/>
              </a:rPr>
              <a:t>Healthzone Schematic</a:t>
            </a:r>
            <a:endParaRPr b="0" lang="en-US" sz="3000" spc="-1" strike="noStrike">
              <a:solidFill>
                <a:srgbClr val="004760"/>
              </a:solidFill>
              <a:latin typeface="Arial"/>
            </a:endParaRPr>
          </a:p>
        </p:txBody>
      </p:sp>
      <p:pic>
        <p:nvPicPr>
          <p:cNvPr id="227" name="Picture 4" descr="Diagram2.png"/>
          <p:cNvPicPr/>
          <p:nvPr/>
        </p:nvPicPr>
        <p:blipFill>
          <a:blip r:embed="rId1"/>
          <a:stretch/>
        </p:blipFill>
        <p:spPr>
          <a:xfrm>
            <a:off x="1467000" y="1152360"/>
            <a:ext cx="6716520" cy="501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8"/>
          <p:cNvSpPr/>
          <p:nvPr/>
        </p:nvSpPr>
        <p:spPr>
          <a:xfrm>
            <a:off x="231840" y="685800"/>
            <a:ext cx="552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9ac8"/>
                </a:solidFill>
                <a:latin typeface="Verdana"/>
              </a:rPr>
              <a:t>A flexible, scalable solution</a:t>
            </a:r>
            <a:endParaRPr b="0" lang="en-US" sz="30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29" name="Title 1"/>
          <p:cNvSpPr/>
          <p:nvPr/>
        </p:nvSpPr>
        <p:spPr>
          <a:xfrm>
            <a:off x="349200" y="1401840"/>
            <a:ext cx="629784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Choose the connection medium (and cost option) that’s best suited to your needs: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c4d4f"/>
                </a:solidFill>
                <a:latin typeface="Verdana"/>
              </a:rPr>
              <a:t>Gen-i WAN Services (GWS)</a:t>
            </a:r>
            <a:endParaRPr b="0" lang="en-US" sz="14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Best suited for hospitals and large super-clinics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Dedicated connection from 10Mbps to 1Gbps</a:t>
            </a:r>
            <a:br>
              <a:rPr sz="1200"/>
            </a:b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c4d4f"/>
                </a:solidFill>
                <a:latin typeface="Verdana"/>
              </a:rPr>
              <a:t>Mobile (Private APN)</a:t>
            </a:r>
            <a:endParaRPr b="0" lang="en-US" sz="14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Ideal for a remote workforce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Mobile connection with secure data channel</a:t>
            </a:r>
            <a:br>
              <a:rPr sz="1200"/>
            </a:b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c4d4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Best suited to small clinics and pharmacies (including multi-practice)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Internet connection with secure, encrypted device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8"/>
          <p:cNvSpPr/>
          <p:nvPr/>
        </p:nvSpPr>
        <p:spPr>
          <a:xfrm>
            <a:off x="231840" y="685800"/>
            <a:ext cx="699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9ac8"/>
                </a:solidFill>
                <a:latin typeface="Verdana"/>
              </a:rPr>
              <a:t>Plus sector-ready technologies</a:t>
            </a:r>
            <a:endParaRPr b="0" lang="en-US" sz="3000" spc="-1" strike="noStrike">
              <a:solidFill>
                <a:srgbClr val="004760"/>
              </a:solidFill>
              <a:latin typeface="Arial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349200" y="1401840"/>
            <a:ext cx="6399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As well as access to the federated networks, HealthZone provides smart scalable access to a world of new technologies. 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c4d4f"/>
                </a:solidFill>
                <a:latin typeface="Verdana"/>
              </a:rPr>
              <a:t>Here are just some examples:</a:t>
            </a:r>
            <a:endParaRPr b="0" lang="en-US" sz="18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4c4d4f"/>
                </a:solidFill>
                <a:latin typeface="Verdana"/>
              </a:rPr>
              <a:t>RFID technology</a:t>
            </a: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 for asset tracking within hospitals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4c4d4f"/>
                </a:solidFill>
                <a:latin typeface="Verdana"/>
              </a:rPr>
              <a:t>Mobile Telehealth solutions </a:t>
            </a: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for at-home management </a:t>
            </a:r>
            <a:br>
              <a:rPr sz="1200"/>
            </a:b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   of </a:t>
            </a:r>
            <a:r>
              <a:rPr b="0" i="1" lang="en-US" sz="1200" spc="-1" strike="noStrike">
                <a:solidFill>
                  <a:srgbClr val="4c4d4f"/>
                </a:solidFill>
                <a:latin typeface="Verdana"/>
              </a:rPr>
              <a:t>Long Term Conditions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4c4d4f"/>
                </a:solidFill>
                <a:latin typeface="Verdana"/>
              </a:rPr>
              <a:t>Video collaboration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4c4d4f"/>
                </a:solidFill>
                <a:latin typeface="Verdana"/>
              </a:rPr>
              <a:t>Electronic reminders</a:t>
            </a: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 for patient appointments</a:t>
            </a:r>
            <a:br>
              <a:rPr sz="1200"/>
            </a:br>
            <a:r>
              <a:rPr b="0" lang="en-US" sz="1200" spc="-1" strike="noStrike">
                <a:solidFill>
                  <a:srgbClr val="4c4d4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9ac8"/>
              </a:buClr>
              <a:buSzPct val="120000"/>
              <a:buFont typeface="Lucida Grande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476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20:06:39Z</dcterms:created>
  <dc:creator>Jon Raymen</dc:creator>
  <dc:description/>
  <dc:language>en-US</dc:language>
  <cp:lastModifiedBy>t815645</cp:lastModifiedBy>
  <cp:lastPrinted>2010-03-04T02:51:59Z</cp:lastPrinted>
  <dcterms:modified xsi:type="dcterms:W3CDTF">2011-03-01T02:41:27Z</dcterms:modified>
  <cp:revision>5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">
    <vt:lpwstr>Brand</vt:lpwstr>
  </property>
  <property fmtid="{D5CDD505-2E9C-101B-9397-08002B2CF9AE}" pid="3" name="Author0">
    <vt:lpwstr>TELECOM\t812511</vt:lpwstr>
  </property>
  <property fmtid="{D5CDD505-2E9C-101B-9397-08002B2CF9AE}" pid="4" name="Creation Date">
    <vt:lpwstr>2009-05-03T20:00:00Z</vt:lpwstr>
  </property>
  <property fmtid="{D5CDD505-2E9C-101B-9397-08002B2CF9AE}" pid="5" name="Description0">
    <vt:lpwstr/>
  </property>
  <property fmtid="{D5CDD505-2E9C-101B-9397-08002B2CF9AE}" pid="6" name="Document Status">
    <vt:lpwstr>Draft</vt:lpwstr>
  </property>
  <property fmtid="{D5CDD505-2E9C-101B-9397-08002B2CF9AE}" pid="7" name="Owner">
    <vt:lpwstr>Fran</vt:lpwstr>
  </property>
  <property fmtid="{D5CDD505-2E9C-101B-9397-08002B2CF9AE}" pid="8" name="Review Period">
    <vt:lpwstr>1 Year</vt:lpwstr>
  </property>
</Properties>
</file>