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8EB-F601-4C46-8127-AFF32D18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ECC-ECF2-4AA2-AF5B-E2111E94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D67-1B24-4EC2-AE1C-98A0FF53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397-4D98-4A3F-8A76-BBD69838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895-9B26-415E-81EF-DA38ED27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33D-61FA-4CE8-8F0F-10ED1017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3BC-4073-4F06-B6E9-F04EEC6F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B92-AD86-432C-9F87-58527624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4A8-BA20-4266-9C4C-5A4BF0D6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14B-E367-4335-B960-83608BF8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BC4-1779-4A56-9538-725EB028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656-3642-497F-9054-18551410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A8F2-CDC5-49F0-990F-02F6B66CF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re you up with the LAR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r Christine 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onal Medical Advis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mily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rch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41800" y="0"/>
            <a:ext cx="41022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o Provera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an be used by adolescents if other methods unsuitable, especially if 18 or 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ages - review at 2 years – risks and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K Faculty of Family Planning and Reproductive Health care, 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ntrauterine contrace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w clear that STIs cause infection not IUDs beyond the initial insertio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deal to exclude STIs before 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f asymptomatic chlamydia found, can treat and insert IUD if reinfection not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f STI or PID diagnosed while IUD in situ, treat and only remove if not sett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UDs can be used by nulliparous w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(although they do have higher expulsion 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ntrauterine contrace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rtility declines in 4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pper IUDs – if inserted when 40 or older, can stay  until postmenopausal if no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rena - if inserted when 45 or older for contraception, can stay  until postmenopausal if no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84360" y="1162080"/>
            <a:ext cx="4032360" cy="3629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58560" y="333000"/>
            <a:ext cx="7427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d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estogen-releasing r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ods of levonogestrel - lasts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ed subdermally into upper arm under local anaesthetic by trained clin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sed from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gust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individual prescription (obtain trochar from Bayer N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release of progestogen which work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ing ovulation for first year or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ckening cervical mu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strogen levels remain above threshold for loss of bone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Jadelle effic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900000" y="1628640"/>
          <a:ext cx="7494840" cy="5141880"/>
        </p:xfrm>
        <a:graphic>
          <a:graphicData uri="http://schemas.openxmlformats.org/drawingml/2006/table">
            <a:tbl>
              <a:tblPr/>
              <a:tblGrid>
                <a:gridCol w="2498760"/>
                <a:gridCol w="2497320"/>
                <a:gridCol w="2498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pregnancy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men 60kg or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560" y="1341000"/>
            <a:ext cx="7885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side effect is change in bleeding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other hormonal side effects but lower hormonal levels than POP – headache, weight gain, ac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 for insertion and removal -occasionally local wound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Jadelle bleeding patt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bleeding and amenorrhoea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s to long term pattern over first 3 -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eding less likely to settle with time than Depo Provera or Mi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eding problems are commonest reason for  discontin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ting and irregular bleeding common – 14% (1 in 7) discontinue for this rea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 for prolonged episodes of vaginal bleeding and spo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% for irregular 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for heavy 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le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possible bleeding problems essential before 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eding pattern possibly related to weight – lighter women more likely to have amenorrhoea, heavier women more likely to have more numerous bleeding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of irregular 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 as long as oestrogen not contraind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AIDs 5 -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Acting Reversible Contraception - LAR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less often than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ess than 1% failur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apid return of fertility when re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ower PID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ess dysmenorrho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ow ectopic pregnanc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se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y day 7 or reliable contra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traceptively effective immediately if inserted by day 5, otherwise 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traindicated if breast cancer within last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hould not be used by those on enzyme inducing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therwise suitable for all ages provided able to manage possible bleed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perficial placement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ontinuation and remo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Jadelle continuation rate at 2 years &gt;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t 5 years 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 not attempt removal if implants impalp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fer to interventional radi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ways of taking C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ycling = taking 3 packets of pills in a row without a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= no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risk of contraceptive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breakthrough bleeding with time but some women will find this spotting a problem – take 7 day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known medical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Acting Reversible Contraception - LAR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 Provera in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uterine contra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acting contracep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that require something with every act of sexual intercourse or need to be taken every day have higher user failur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pill has about 3% failure rate per year in every day use and 8% in first year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have first baby in NZ at about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average woman has more than 10 years contraceptive use before first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 in 3 may therefore have an unintended conception in th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woman has less than 2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any years of contraception required when family complete with possible contraceptive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o Pro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with women returning on time for subsequent in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internationally recommended that “late” injection is more than 14 weeks since last in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schedule next appointment for 1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side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don’t put on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don’t have moo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o Provera and bone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po Provera may reduce bone density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– 7% over the first 2 years of use – it then plate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aused by suppression of o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Depo Provera discontinued, regain this loss of bone density over next few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698920" cy="969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ximum increase in bone mass age 11-14, some sites reach peak bone mass by 18, others l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duced in anorexia nervosa, exercise-induced amenorrhoea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creased in Maori and Pacific nat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22:06:00Z</dcterms:created>
  <dc:creator>janed</dc:creator>
  <dc:description/>
  <dc:language>en-US</dc:language>
  <cp:lastModifiedBy>christiner</cp:lastModifiedBy>
  <dcterms:modified xsi:type="dcterms:W3CDTF">2011-03-15T23:06:58Z</dcterms:modified>
  <cp:revision>16</cp:revision>
  <dc:subject/>
  <dc:title>Slide 1</dc:title>
</cp:coreProperties>
</file>